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7037-AE1A-41DD-8F08-3A5661FE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9D45-1B10-4E28-B2EA-4147E8DA6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7391-5829-4883-9D46-DAEB6B55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F706-8FA2-444D-B844-1D3744541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A192-B62F-4B0A-9584-65D089EAE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F8C4-6A4B-4428-99A1-BDDD1A2DC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CA8B-9CFD-4392-96E2-92850E8F3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CD79-C203-4190-A89F-5E970AC93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1D84-94AD-43C7-B2EC-76E8AFC5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3E9E-8EEF-4607-B095-6F892C5C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DCA-EAF3-43A7-98B1-C806CD12C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CEEF-7975-4316-8D2C-3340B544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CBBB-5CF2-4FEF-BDF3-FC2404B0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B39-4595-440C-B84A-995913803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191-91A1-47BA-98D3-15AF1205D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0F8C-AE79-4E8E-B095-008E45DDC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BE5C-E4BE-4FA8-A40B-E8E789BFB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25D-EECB-4EAF-9FD0-447159081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1CB2-2EB1-4929-A6C1-1DAC8F49E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FC5B-94A0-4786-8AE1-F63293BF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4EEA-B58E-4B6D-9A32-BDBE2F59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3BFB-78AA-49FB-BD34-0850B08D0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159-F64C-483B-8B61-7B463EAD6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D40-4A12-4806-8EB8-648C6C962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881-99BB-4E40-9117-84C5D7191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2B5-585F-4ABF-8014-D82E4427A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3F77-D680-475B-8F1E-9C577514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972-813C-4B36-880C-10CE2816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8CB-C2E3-4F08-B6CE-09C9139F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A5BE-2CB3-4A2B-989D-27DA2D8DA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1904-0CEA-45D6-B5AA-06F7EBC7C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EC4D-F8D0-4473-9C6F-A68AB122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C49-D424-4ADC-8737-67DEA28EF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B07-7FE5-4EC9-8045-5D671369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2C4-A5EB-47E7-85C2-7050681F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0FD-F8A1-4EB6-847C-CE605081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78B-3135-4C1F-9F5D-93950290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9F22-86E2-444C-BAD2-B4117337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E04D-D405-4070-8CA1-6452ED9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143-5EE2-45E6-AF35-642C72C9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0DD3-6F17-4C60-9A5B-9957E1C6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33C9-FA57-4BB4-93AD-7845717E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280F-B0D3-4A25-A9D8-36608C61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076E-3733-40B0-A4CB-A576C9F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9C8-1954-44D9-AAF9-E51F52F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2F00-934D-4CB1-8917-B0EF91A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1D68-31DD-48DF-A2DD-8391E85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3D27-A18A-49A5-B90B-7C9F8674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22D-21C4-4919-9A48-B659F474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01FA-53D3-4A07-BC1D-88CBF64C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1DA-20E6-4C7E-8A2E-3F0EEAF6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E5A-0442-4017-89D7-4ADB0D6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CBA-7674-4AD8-8BC4-7E713C40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E19-91B4-4533-A680-F03E668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746-D2AD-4753-8A08-A2EF989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BC4-09BD-47B5-BDF4-B562AB9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4C8-D367-455C-834D-2FEC4495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01DE-9F8A-4AF1-B60E-BA1674D8A5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D667-804E-44AF-B473-B8F53DA15D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The Science of Biolog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ology 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3. Form a Hypothe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Based on the research you have done, write a possible answer or solution – your best educated guess – to your ques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8190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4. Design an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trol Group: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Part of your experiment that is not varied in anyway.  You can compare your test groups to this set standard grou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Independent variable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e change/difference </a:t>
            </a:r>
            <a:r>
              <a:rPr b="0" i="1" lang="en-US" sz="2200" spc="-1" strike="noStrike">
                <a:solidFill>
                  <a:srgbClr val="0000ff"/>
                </a:solidFill>
                <a:latin typeface="Book Antiqua"/>
              </a:rPr>
              <a:t>you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 make in the experiment (the thing you are testing). Also called manipulated vari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Dependent variable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- The differences that result from the experiment, the resulting effect. Also called responding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stants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ings in the experiment that do not change, kept exactly the same for each test group so they do not affect the resul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81900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5. Data/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t is easier to understand the data if it is put into a table and/or grap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Make sure all data is clearly labeled.  Charts and graph should always include units and ti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en graphing the independent variable should be on the x axis and the dependent variable should be on the y 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6.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happen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was expected?  What was unexp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trends did you notice in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7. Conclusion or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3432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ndicate whether or not the data supports the hypothesis and explain why or why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possible improvements to the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further avenues of research or uses for the information discov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nferenc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teps of the scientific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step would you find charts and graph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n independent variable and a dependent var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a control gro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it mean to have a controlled experi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1-2 An Example of</a:t>
            </a:r>
            <a:br>
              <a:rPr sz="3600"/>
            </a:b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 Science at 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bserved: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ometimes organisms just “arose” from nonliving things: eg. maggots came from m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Question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How do new living things come into be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ypothesis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In some cases, nonliving objects can spontaneously generate living org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xperiment- 1668, Francesco Re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at in covered and uncovered j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posed a new hypothesis:  The maggots came from eggs left by flies on the meat that were too small to 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ncluded: Maggots came from f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62120" y="1219320"/>
            <a:ext cx="7465680" cy="4514400"/>
            <a:chOff x="762120" y="1219320"/>
            <a:chExt cx="7465680" cy="45144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768960" y="1250280"/>
              <a:ext cx="7458840" cy="448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762120" y="1219320"/>
              <a:ext cx="73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SERVATIONS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ies land on meat that is left uncovered.  Later, maggots appear on the meat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769320" y="1482480"/>
              <a:ext cx="328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POTHESIS: Flies produce maggots.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778680" y="173196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776520" y="2619360"/>
              <a:ext cx="19090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rs, type of meat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tion, temperature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778680" y="3645360"/>
              <a:ext cx="19958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ipulat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ze covering th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eps flies away from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3049560" y="204912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6078240" y="204912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4831920" y="3229560"/>
              <a:ext cx="986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veral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s pass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2847960" y="482904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6081480" y="482904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782280" y="4588200"/>
              <a:ext cx="23997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ding Variable: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ther maggots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ear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762120" y="5226120"/>
              <a:ext cx="7338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7480" indent="-125748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LUSION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gots form only when flies come in contact with meat. Spontaneous generation of maggots did not occur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144000" cy="50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Redi’s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Science continues...New Ideas with new discover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New discovery!- tiny microorganisms (discovered by Anton van Leeuwen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n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Mid 1700s, John Needh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peats Redi’s experi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s hypothesis: Spontaneous generation can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nder the right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: microorganisms appear in sealed flask of boiled gra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Science Experiments are always repe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Lazzaro Spallanza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nks Needham did not boil gravy long enough to kill existing micro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s: When left exposed to air, microorganisms will appear in boiled grav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e concluded that microorganisms could not come from gravy but appeared instead from microorganisms existing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Observing the Worl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If you are a thinker, you question things you observe and may not understand and you try to find an answer.  There are many ways to find these answers.  If you are a scientific thinker you find your answer using the scientific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5d32"/>
                </a:solidFill>
                <a:latin typeface="Book Antiqua"/>
              </a:rPr>
              <a:t>Why is the sky b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Spallanzani’s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20760" y="1600200"/>
            <a:ext cx="5021280" cy="4690440"/>
            <a:chOff x="1220760" y="1600200"/>
            <a:chExt cx="5021280" cy="469044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353700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5"/>
            <p:cNvSpPr/>
            <p:nvPr/>
          </p:nvSpPr>
          <p:spPr>
            <a:xfrm>
              <a:off x="1220760" y="355104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2946240" y="355104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095720" y="3551040"/>
              <a:ext cx="214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teeming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 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220760" y="5786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946240" y="569736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a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4097520" y="5709960"/>
              <a:ext cx="167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free of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6477120" y="2057400"/>
            <a:ext cx="228600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ham tried first but didn’t bring gravy to hot enough temperature.</a:t>
            </a:r>
            <a:endParaRPr b="0" lang="en-US" sz="18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New Question: Is air the “life force”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th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1864, Louis Past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et out to dismiss the notion that the “life force”, air was needed to generate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sed curved neck on flask so air could get in but organisms woul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oncluded that all living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n only come from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his has been tested over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d is now considered a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lled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biogen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Pasteur"/>
          <p:cNvPicPr/>
          <p:nvPr/>
        </p:nvPicPr>
        <p:blipFill>
          <a:blip r:embed="rId1"/>
          <a:stretch/>
        </p:blipFill>
        <p:spPr>
          <a:xfrm>
            <a:off x="6019920" y="4419720"/>
            <a:ext cx="2705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25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all 4 scientists use good scientific thinking and a controlled experi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pontaneous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point of the “swan neck” Pasteur added to his fl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iogen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5d32"/>
                </a:solidFill>
                <a:latin typeface="Rockwell Extra Bold"/>
              </a:rPr>
              <a:t>1-3 Studying Life (Biology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What is considered aliv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4349"/>
                </a:solidFill>
                <a:latin typeface="Book Antiqua"/>
              </a:rPr>
              <a:t>living thin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are made of ce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reprodu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are based on a universal genetic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grow and devel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obtain and use materials and ener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respond to their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Maintain a stable internal environment (homeostas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94349"/>
                </a:solidFill>
                <a:latin typeface="Book Antiqua"/>
              </a:rPr>
              <a:t>Change over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Studying Life in Various Way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Book Antiqua"/>
              </a:rPr>
              <a:t>Branch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Divided into fields based on the type of life or  particular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Examples of type of life: Zoologist study animals, Botanist study plants, Microbiologists study bacteria and other small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Book Antiqua"/>
              </a:rPr>
              <a:t>Examples of perspective: Paleontologists study ancient life, Embryologists study newly forming lif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5d32"/>
              </a:solidFill>
              <a:latin typeface="Rockwell Extr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Book Antiqua"/>
            </a:endParaRPr>
          </a:p>
        </p:txBody>
      </p:sp>
      <p:pic>
        <p:nvPicPr>
          <p:cNvPr id="167" name="Picture 5" descr="Levels of Organization"/>
          <p:cNvPicPr/>
          <p:nvPr/>
        </p:nvPicPr>
        <p:blipFill>
          <a:blip r:embed="rId1"/>
          <a:stretch/>
        </p:blipFill>
        <p:spPr>
          <a:xfrm>
            <a:off x="3505320" y="1066680"/>
            <a:ext cx="1904760" cy="5457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493280" y="380880"/>
            <a:ext cx="6509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805d32"/>
                </a:solidFill>
                <a:latin typeface="Rockwell Extra Bold"/>
              </a:rPr>
              <a:t>Studying Life at Various Levels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oeth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oeth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think of any ethical issues that science must 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1-4 Tools and Procedures used in Biolo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 ALWAYS uses the METRIC SYSTEM to make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units: Length- meter, Mass- gram, Volume- liter, Temp. Cels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s: 1 mile = _________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ound= ________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up =  ________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1-1 What is scie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 organized way of using evidence to learn about the natural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It also refers to the body of knowledge th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have accumulated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Book Antiqua"/>
              </a:rPr>
              <a:t>It is not </a:t>
            </a: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based on belief or faith, magic, or legend but on actual evidence.  It is concerned with the natural world, not the supernatural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und light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 of lens that use light to magnify image (usually 1000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tudy dead or alive organisms, no smaller than .2 mic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used in conjunction with chemical stains (to identify parts) and fluorescent dyes (to create 3-D im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eams of electrons to produce images,  up to 1000x more detailed than light microscop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observe living specimens (slides must be in a vacu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main types: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M- scanning electron microscope a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M- transmission electron microsco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8 characteristics of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a community and a pop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etric units would you use to measure the amount of water in a poo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height?  Your weight?  The weight of a paper cl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icroscope-boxed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5443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457200" y="380880"/>
            <a:ext cx="4495680" cy="685800"/>
          </a:xfrm>
          <a:prstGeom prst="rect">
            <a:avLst/>
          </a:prstGeom>
          <a:solidFill>
            <a:srgbClr val="805d32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Rockwell Extra Bold"/>
              </a:rPr>
              <a:t>The Microscope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What is Biolog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905120" y="2780280"/>
            <a:ext cx="5790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Biology is a specific field of science that studies life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5d32"/>
                </a:solidFill>
                <a:latin typeface="Rockwell Extra Bold"/>
              </a:rPr>
              <a:t>Important Skills used When Doing Sc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bserving-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process of gathering information using your senses in a careful, orderly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Inferencing-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making a logical interpretation based on prior knowledge or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Good Scientists.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skeptic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They question existing ideas and new hypoth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open-minded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are always willing to consider new ideas when evidence demands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ly on basic natural law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understand that the universe functions as a system of interacting proces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peat experiments: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 through an immense amount of research a certain hypothesis might become so well-supported that scientists consider it a 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theory 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(example: biogenesi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keep up with new knowledge gained through research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: They continually revise and re-evaluate their ideas.  NOTHING IS “FACT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805d32"/>
                </a:solidFill>
                <a:latin typeface="Book Antiqua"/>
              </a:rPr>
              <a:t>Many questions you have now or will have in the future involve science.  You must understand science to make intelligent decisions about such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How is Science Don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use the scientific method.  When scientists have a question about something in the world they use this method to find an 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the Problem or Question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a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Design an experiment with a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group, constants an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Analyze data/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Conclusion o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1. State the Problem or Ques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have I observ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do I want to know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2. Resear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as anyone asked this befo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id they discover an answ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ow did they go about looking for an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at other things do I need to understand to answer my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6:17:46Z</dcterms:created>
  <dc:creator>Brian and Megan Gallagher</dc:creator>
  <dc:description/>
  <dc:language>en-US</dc:language>
  <cp:lastModifiedBy>udsd</cp:lastModifiedBy>
  <dcterms:modified xsi:type="dcterms:W3CDTF">2009-09-09T14:42:37Z</dcterms:modified>
  <cp:revision>10</cp:revision>
  <dc:subject/>
  <dc:title>The Science of B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